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10.png" ContentType="image/pn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dt" idx="1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095953-AAA4-41D0-BCC3-45F92B141AD3}" type="datetime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e917"/>
                </a:solidFill>
                <a:latin typeface="Calibri"/>
              </a:rPr>
              <a:t>Click to move the slide</a:t>
            </a: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ftr" idx="2"/>
          </p:nvPr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 type="sldNum" idx="3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DA910A-02BA-41DB-B154-F7864F6ED94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3"/>
          <p:cNvSpPr/>
          <p:nvPr/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5CF5C7-D410-4312-8DC8-551C172C4F64}" type="datetime">
              <a:rPr b="0" lang="nl-NL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1-07-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FA641B-7C53-441F-982E-C255EF98B57F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36320" y="1863720"/>
            <a:ext cx="799596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320" y="3503880"/>
            <a:ext cx="799596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6320" y="1863720"/>
            <a:ext cx="390168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33480" y="1863720"/>
            <a:ext cx="390168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36320" y="3503880"/>
            <a:ext cx="390168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533480" y="3503880"/>
            <a:ext cx="390168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36320" y="1863720"/>
            <a:ext cx="257436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39920" y="1863720"/>
            <a:ext cx="257436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843160" y="1863720"/>
            <a:ext cx="257436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36320" y="3503880"/>
            <a:ext cx="257436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39920" y="3503880"/>
            <a:ext cx="257436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843160" y="3503880"/>
            <a:ext cx="257436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36320" y="1863720"/>
            <a:ext cx="7995960" cy="31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36320" y="1863720"/>
            <a:ext cx="7995960" cy="31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36320" y="1863720"/>
            <a:ext cx="3901680" cy="31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33480" y="1863720"/>
            <a:ext cx="3901680" cy="31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36320" y="830160"/>
            <a:ext cx="7995960" cy="22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6320" y="1863720"/>
            <a:ext cx="390168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33480" y="1863720"/>
            <a:ext cx="3901680" cy="31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36320" y="3503880"/>
            <a:ext cx="390168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36320" y="1863720"/>
            <a:ext cx="7995960" cy="31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36320" y="1863720"/>
            <a:ext cx="3901680" cy="31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33480" y="1863720"/>
            <a:ext cx="390168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33480" y="3503880"/>
            <a:ext cx="390168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36320" y="1863720"/>
            <a:ext cx="390168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33480" y="1863720"/>
            <a:ext cx="390168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36320" y="3503880"/>
            <a:ext cx="799596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36320" y="1863720"/>
            <a:ext cx="799596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6320" y="3503880"/>
            <a:ext cx="799596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36320" y="1863720"/>
            <a:ext cx="390168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3480" y="1863720"/>
            <a:ext cx="390168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36320" y="3503880"/>
            <a:ext cx="390168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33480" y="3503880"/>
            <a:ext cx="390168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6320" y="1863720"/>
            <a:ext cx="257436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9920" y="1863720"/>
            <a:ext cx="257436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843160" y="1863720"/>
            <a:ext cx="257436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320" y="3503880"/>
            <a:ext cx="257436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9920" y="3503880"/>
            <a:ext cx="257436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843160" y="3503880"/>
            <a:ext cx="257436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36320" y="1863720"/>
            <a:ext cx="7995960" cy="31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36320" y="1863720"/>
            <a:ext cx="7995960" cy="31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36320" y="1863720"/>
            <a:ext cx="3901680" cy="31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33480" y="1863720"/>
            <a:ext cx="3901680" cy="31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36320" y="1863720"/>
            <a:ext cx="7995960" cy="31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36320" y="830160"/>
            <a:ext cx="7995960" cy="22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6320" y="1863720"/>
            <a:ext cx="390168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33480" y="1863720"/>
            <a:ext cx="3901680" cy="31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36320" y="3503880"/>
            <a:ext cx="390168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36320" y="1863720"/>
            <a:ext cx="3901680" cy="31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33480" y="1863720"/>
            <a:ext cx="390168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33480" y="3503880"/>
            <a:ext cx="390168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36320" y="1863720"/>
            <a:ext cx="390168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33480" y="1863720"/>
            <a:ext cx="390168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36320" y="3503880"/>
            <a:ext cx="799596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36320" y="1863720"/>
            <a:ext cx="799596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6320" y="3503880"/>
            <a:ext cx="799596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36320" y="1863720"/>
            <a:ext cx="390168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33480" y="1863720"/>
            <a:ext cx="390168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36320" y="3503880"/>
            <a:ext cx="390168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33480" y="3503880"/>
            <a:ext cx="390168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36320" y="1863720"/>
            <a:ext cx="257436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139920" y="1863720"/>
            <a:ext cx="257436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843160" y="1863720"/>
            <a:ext cx="257436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36320" y="3503880"/>
            <a:ext cx="257436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139920" y="3503880"/>
            <a:ext cx="257436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843160" y="3503880"/>
            <a:ext cx="257436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36320" y="1863720"/>
            <a:ext cx="7995960" cy="31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36320" y="1863720"/>
            <a:ext cx="7995960" cy="31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36320" y="1863720"/>
            <a:ext cx="3901680" cy="31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533480" y="1863720"/>
            <a:ext cx="3901680" cy="31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36320" y="1863720"/>
            <a:ext cx="3901680" cy="31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33480" y="1863720"/>
            <a:ext cx="3901680" cy="31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36320" y="830160"/>
            <a:ext cx="7995960" cy="22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36320" y="1863720"/>
            <a:ext cx="390168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33480" y="1863720"/>
            <a:ext cx="3901680" cy="31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36320" y="3503880"/>
            <a:ext cx="390168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36320" y="1863720"/>
            <a:ext cx="3901680" cy="31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33480" y="1863720"/>
            <a:ext cx="390168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33480" y="3503880"/>
            <a:ext cx="390168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36320" y="1863720"/>
            <a:ext cx="390168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33480" y="1863720"/>
            <a:ext cx="390168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36320" y="3503880"/>
            <a:ext cx="799596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36320" y="1863720"/>
            <a:ext cx="799596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36320" y="3503880"/>
            <a:ext cx="799596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36320" y="1863720"/>
            <a:ext cx="390168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33480" y="1863720"/>
            <a:ext cx="390168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36320" y="3503880"/>
            <a:ext cx="390168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33480" y="3503880"/>
            <a:ext cx="390168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36320" y="1863720"/>
            <a:ext cx="257436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139920" y="1863720"/>
            <a:ext cx="257436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843160" y="1863720"/>
            <a:ext cx="257436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36320" y="3503880"/>
            <a:ext cx="257436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139920" y="3503880"/>
            <a:ext cx="257436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843160" y="3503880"/>
            <a:ext cx="257436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36320" y="830160"/>
            <a:ext cx="7995960" cy="22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36320" y="1863720"/>
            <a:ext cx="390168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3480" y="1863720"/>
            <a:ext cx="3901680" cy="31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36320" y="3503880"/>
            <a:ext cx="390168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36320" y="1863720"/>
            <a:ext cx="3901680" cy="31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33480" y="1863720"/>
            <a:ext cx="390168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33480" y="3503880"/>
            <a:ext cx="390168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36320" y="1863720"/>
            <a:ext cx="390168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33480" y="1863720"/>
            <a:ext cx="390168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320" y="3503880"/>
            <a:ext cx="799596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6320" y="830160"/>
            <a:ext cx="79959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e917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6320" y="1863720"/>
            <a:ext cx="7995960" cy="31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Afbeelding 1" descr="UM_schrijfwijze-[rgb].png"/>
          <p:cNvPicPr/>
          <p:nvPr/>
        </p:nvPicPr>
        <p:blipFill>
          <a:blip r:embed="rId2"/>
          <a:stretch/>
        </p:blipFill>
        <p:spPr>
          <a:xfrm>
            <a:off x="487440" y="90360"/>
            <a:ext cx="909720" cy="34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Afbeelding 1" descr="UM_schrijfwijze-[rgb].png"/>
          <p:cNvPicPr/>
          <p:nvPr/>
        </p:nvPicPr>
        <p:blipFill>
          <a:blip r:embed="rId2"/>
          <a:stretch/>
        </p:blipFill>
        <p:spPr>
          <a:xfrm>
            <a:off x="487440" y="90360"/>
            <a:ext cx="909720" cy="347760"/>
          </a:xfrm>
          <a:prstGeom prst="rect">
            <a:avLst/>
          </a:prstGeom>
          <a:ln w="0">
            <a:noFill/>
          </a:ln>
        </p:spPr>
      </p:pic>
      <p:sp>
        <p:nvSpPr>
          <p:cNvPr id="40" name="Rechthoek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e31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" name="Afbeelding 8" descr="UM_letters[rgb]2.png"/>
          <p:cNvPicPr/>
          <p:nvPr/>
        </p:nvPicPr>
        <p:blipFill>
          <a:blip r:embed="rId3"/>
          <a:stretch/>
        </p:blipFill>
        <p:spPr>
          <a:xfrm>
            <a:off x="2309760" y="2840040"/>
            <a:ext cx="4524480" cy="1177920"/>
          </a:xfrm>
          <a:prstGeom prst="rect">
            <a:avLst/>
          </a:prstGeom>
          <a:ln w="0">
            <a:noFill/>
          </a:ln>
        </p:spPr>
      </p:pic>
      <p:pic>
        <p:nvPicPr>
          <p:cNvPr id="42" name="Afbeelding 9" descr="Universiteit_Utrecht2.png"/>
          <p:cNvPicPr/>
          <p:nvPr/>
        </p:nvPicPr>
        <p:blipFill>
          <a:blip r:embed="rId4"/>
          <a:stretch/>
        </p:blipFill>
        <p:spPr>
          <a:xfrm>
            <a:off x="447840" y="6181560"/>
            <a:ext cx="1773000" cy="4734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36320" y="830160"/>
            <a:ext cx="79959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e917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36320" y="1863720"/>
            <a:ext cx="7995960" cy="31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Afbeelding 1" descr="UM_schrijfwijze-[rgb].png"/>
          <p:cNvPicPr/>
          <p:nvPr/>
        </p:nvPicPr>
        <p:blipFill>
          <a:blip r:embed="rId2"/>
          <a:stretch/>
        </p:blipFill>
        <p:spPr>
          <a:xfrm>
            <a:off x="487440" y="90360"/>
            <a:ext cx="909720" cy="347760"/>
          </a:xfrm>
          <a:prstGeom prst="rect">
            <a:avLst/>
          </a:prstGeom>
          <a:ln w="0">
            <a:noFill/>
          </a:ln>
        </p:spPr>
      </p:pic>
      <p:sp>
        <p:nvSpPr>
          <p:cNvPr id="82" name="Rechthoek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e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36320" y="830160"/>
            <a:ext cx="79959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e917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36320" y="1863720"/>
            <a:ext cx="7995960" cy="31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Afbeelding 1" descr="UM_schrijfwijze-[rgb].png"/>
          <p:cNvPicPr/>
          <p:nvPr/>
        </p:nvPicPr>
        <p:blipFill>
          <a:blip r:embed="rId2"/>
          <a:stretch/>
        </p:blipFill>
        <p:spPr>
          <a:xfrm>
            <a:off x="487440" y="90360"/>
            <a:ext cx="909720" cy="347760"/>
          </a:xfrm>
          <a:prstGeom prst="rect">
            <a:avLst/>
          </a:prstGeom>
          <a:ln w="0">
            <a:noFill/>
          </a:ln>
        </p:spPr>
      </p:pic>
      <p:sp>
        <p:nvSpPr>
          <p:cNvPr id="122" name="Rechthoek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e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36320" y="830160"/>
            <a:ext cx="79959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e917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36320" y="1863720"/>
            <a:ext cx="7995960" cy="31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20840" y="4025520"/>
            <a:ext cx="62373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170" name="Tijdelijke aanduiding voor inhoud 2"/>
          <p:cNvSpPr/>
          <p:nvPr/>
        </p:nvSpPr>
        <p:spPr>
          <a:xfrm>
            <a:off x="2016000" y="6046920"/>
            <a:ext cx="4837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Arial Unicode MS"/>
              </a:rPr>
              <a:t>Wiebelpra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5" descr="Gerelateerde afbeelding"/>
          <p:cNvPicPr/>
          <p:nvPr/>
        </p:nvPicPr>
        <p:blipFill>
          <a:blip r:embed="rId1"/>
          <a:srcRect l="0" t="1720" r="0" b="5595"/>
          <a:stretch/>
        </p:blipFill>
        <p:spPr>
          <a:xfrm>
            <a:off x="0" y="514440"/>
            <a:ext cx="914400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173" name="Tijdelijke aanduiding voor inhoud 2"/>
          <p:cNvSpPr/>
          <p:nvPr/>
        </p:nvSpPr>
        <p:spPr>
          <a:xfrm>
            <a:off x="2016000" y="6046920"/>
            <a:ext cx="4837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Arial Unicode MS"/>
              </a:rPr>
              <a:t>Melktand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2" descr="Afbeeldingsresultaat voor milk teeth"/>
          <p:cNvPicPr/>
          <p:nvPr/>
        </p:nvPicPr>
        <p:blipFill>
          <a:blip r:embed="rId1"/>
          <a:srcRect l="0" t="9250" r="0" b="1773"/>
          <a:stretch/>
        </p:blipFill>
        <p:spPr>
          <a:xfrm>
            <a:off x="0" y="514440"/>
            <a:ext cx="914400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176" name="Tijdelijke aanduiding voor inhoud 2"/>
          <p:cNvSpPr/>
          <p:nvPr/>
        </p:nvSpPr>
        <p:spPr>
          <a:xfrm>
            <a:off x="2016000" y="6046920"/>
            <a:ext cx="4837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Arial Unicode MS"/>
              </a:rPr>
              <a:t>Grote tand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Afbeelding 2" descr=""/>
          <p:cNvPicPr/>
          <p:nvPr/>
        </p:nvPicPr>
        <p:blipFill>
          <a:blip r:embed="rId1"/>
          <a:srcRect l="0" t="6340" r="0" b="14569"/>
          <a:stretch/>
        </p:blipFill>
        <p:spPr>
          <a:xfrm>
            <a:off x="4567320" y="514440"/>
            <a:ext cx="4572000" cy="5424480"/>
          </a:xfrm>
          <a:prstGeom prst="rect">
            <a:avLst/>
          </a:prstGeom>
          <a:ln w="0">
            <a:noFill/>
          </a:ln>
        </p:spPr>
      </p:pic>
      <p:pic>
        <p:nvPicPr>
          <p:cNvPr id="178" name="Afbeelding 6" descr=""/>
          <p:cNvPicPr/>
          <p:nvPr/>
        </p:nvPicPr>
        <p:blipFill>
          <a:blip r:embed="rId2"/>
          <a:srcRect l="15388" t="7356" r="16132" b="13551"/>
          <a:stretch/>
        </p:blipFill>
        <p:spPr>
          <a:xfrm>
            <a:off x="-61920" y="514440"/>
            <a:ext cx="4695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180" name="Tijdelijke aanduiding voor inhoud 2"/>
          <p:cNvSpPr/>
          <p:nvPr/>
        </p:nvSpPr>
        <p:spPr>
          <a:xfrm>
            <a:off x="0" y="6046920"/>
            <a:ext cx="9144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Onder elke melktand 1 grote t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Afbeelding 3" descr=""/>
          <p:cNvPicPr/>
          <p:nvPr/>
        </p:nvPicPr>
        <p:blipFill>
          <a:blip r:embed="rId1"/>
          <a:srcRect l="0" t="5438" r="0" b="6549"/>
          <a:stretch/>
        </p:blipFill>
        <p:spPr>
          <a:xfrm>
            <a:off x="-7920" y="515880"/>
            <a:ext cx="914400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Afbeelding 2" descr=""/>
          <p:cNvPicPr/>
          <p:nvPr/>
        </p:nvPicPr>
        <p:blipFill>
          <a:blip r:embed="rId1"/>
          <a:stretch/>
        </p:blipFill>
        <p:spPr>
          <a:xfrm>
            <a:off x="496800" y="0"/>
            <a:ext cx="8059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436320" y="1863720"/>
            <a:ext cx="7995960" cy="31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4" name="Afbeelding 2" descr=""/>
          <p:cNvPicPr/>
          <p:nvPr/>
        </p:nvPicPr>
        <p:blipFill>
          <a:blip r:embed="rId1"/>
          <a:stretch/>
        </p:blipFill>
        <p:spPr>
          <a:xfrm>
            <a:off x="1824120" y="449280"/>
            <a:ext cx="5495760" cy="63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36320" y="1324080"/>
            <a:ext cx="7995960" cy="31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7" name="Picture 5" descr="Gerelateerde afbeelding"/>
          <p:cNvPicPr/>
          <p:nvPr/>
        </p:nvPicPr>
        <p:blipFill>
          <a:blip r:embed="rId1"/>
          <a:srcRect l="0" t="1720" r="0" b="5595"/>
          <a:stretch/>
        </p:blipFill>
        <p:spPr>
          <a:xfrm>
            <a:off x="4572000" y="4146480"/>
            <a:ext cx="4572000" cy="27115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Gerelateerde afbeelding"/>
          <p:cNvPicPr/>
          <p:nvPr/>
        </p:nvPicPr>
        <p:blipFill>
          <a:blip r:embed="rId2"/>
          <a:stretch/>
        </p:blipFill>
        <p:spPr>
          <a:xfrm>
            <a:off x="0" y="4145040"/>
            <a:ext cx="4572000" cy="2712960"/>
          </a:xfrm>
          <a:prstGeom prst="rect">
            <a:avLst/>
          </a:prstGeom>
          <a:ln w="0">
            <a:noFill/>
          </a:ln>
        </p:spPr>
      </p:pic>
      <p:sp>
        <p:nvSpPr>
          <p:cNvPr id="189" name="Tijdelijke aanduiding voor inhoud 4"/>
          <p:cNvSpPr/>
          <p:nvPr/>
        </p:nvSpPr>
        <p:spPr>
          <a:xfrm>
            <a:off x="573120" y="1324080"/>
            <a:ext cx="7996320" cy="31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Verdana"/>
              </a:rPr>
              <a:t>In welke volgorde 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Verdana"/>
              </a:rPr>
              <a:t>wisselen tanden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504800" y="4994280"/>
            <a:ext cx="6134400" cy="31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Arial Unicode MS"/>
              </a:rPr>
              <a:t>Wisselspel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2" name="Picture 4" descr="Afbeeldingsresultaat voor school stoel geel"/>
          <p:cNvPicPr/>
          <p:nvPr/>
        </p:nvPicPr>
        <p:blipFill>
          <a:blip r:embed="rId1"/>
          <a:stretch/>
        </p:blipFill>
        <p:spPr>
          <a:xfrm>
            <a:off x="941400" y="1477800"/>
            <a:ext cx="3362400" cy="3362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Afbeeldingsresultaat voor school stoel geel"/>
          <p:cNvPicPr/>
          <p:nvPr/>
        </p:nvPicPr>
        <p:blipFill>
          <a:blip r:embed="rId2"/>
          <a:stretch/>
        </p:blipFill>
        <p:spPr>
          <a:xfrm>
            <a:off x="4651200" y="1581120"/>
            <a:ext cx="3632400" cy="33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6T19:25:15Z</dcterms:created>
  <dc:creator>Maarten Jansen</dc:creator>
  <dc:description/>
  <dc:language>en-US</dc:language>
  <cp:lastModifiedBy>Dekker, E.A. (Lieke)</cp:lastModifiedBy>
  <dcterms:modified xsi:type="dcterms:W3CDTF">2019-09-27T10:38:42Z</dcterms:modified>
  <cp:revision>69</cp:revision>
  <dc:subject/>
  <dc:title>PowerPoint-presentatie</dc:title>
</cp:coreProperties>
</file>