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</p:sldIdLst>
  <p:sldSz cx="9144000" cy="68580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0" y="0"/>
            <a:ext cx="6793200" cy="9932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dt" idx="1"/>
          </p:nvPr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D9F395F-34D0-4845-B95E-8D20D5AAB328}" type="datetime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sldImg"/>
          </p:nvPr>
        </p:nvSpPr>
        <p:spPr>
          <a:xfrm>
            <a:off x="914400" y="744120"/>
            <a:ext cx="4965840" cy="3724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move the slide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 type="ftr" idx="2"/>
          </p:nvPr>
        </p:nvSpPr>
        <p:spPr>
          <a:xfrm>
            <a:off x="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 type="sldNum" idx="3"/>
          </p:nvPr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nl-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0BF54FB-0E06-42C5-B96F-C61F36B977BA}" type="slidenum">
              <a:rPr b="0" lang="nl-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3848040" y="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6F7E9A-A1A6-46DF-B446-CCDC15501EE0}" type="datetime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28-07-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Rectangle 7"/>
          <p:cNvSpPr/>
          <p:nvPr/>
        </p:nvSpPr>
        <p:spPr>
          <a:xfrm>
            <a:off x="3848040" y="94330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2C9C1B-FF3F-4C9D-9EA1-04097B15A510}" type="slidenum">
              <a:rPr b="0" lang="nl-NL" sz="12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914400" y="744480"/>
            <a:ext cx="4965840" cy="37242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78960" y="4717800"/>
            <a:ext cx="5435640" cy="4468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399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84316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363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399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584316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36320" y="830160"/>
            <a:ext cx="799596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399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84316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63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399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84316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36320" y="830160"/>
            <a:ext cx="799596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1399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84316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363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1399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584316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436320" y="830160"/>
            <a:ext cx="799596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313992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843160" y="186372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363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6"/>
          <p:cNvSpPr>
            <a:spLocks noGrp="1"/>
          </p:cNvSpPr>
          <p:nvPr>
            <p:ph/>
          </p:nvPr>
        </p:nvSpPr>
        <p:spPr>
          <a:xfrm>
            <a:off x="313992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7"/>
          <p:cNvSpPr>
            <a:spLocks noGrp="1"/>
          </p:cNvSpPr>
          <p:nvPr>
            <p:ph/>
          </p:nvPr>
        </p:nvSpPr>
        <p:spPr>
          <a:xfrm>
            <a:off x="5843160" y="3503880"/>
            <a:ext cx="25743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36320" y="830160"/>
            <a:ext cx="7995960" cy="2290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33480" y="350388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6320" y="756000"/>
            <a:ext cx="79959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632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33480" y="1863720"/>
            <a:ext cx="390168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320" y="3503880"/>
            <a:ext cx="7995960" cy="149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" name="Afbeelding 1" descr="UM_schrijfwijze-[rgb].png"/>
          <p:cNvPicPr/>
          <p:nvPr/>
        </p:nvPicPr>
        <p:blipFill>
          <a:blip r:embed="rId2"/>
          <a:stretch/>
        </p:blipFill>
        <p:spPr>
          <a:xfrm>
            <a:off x="487440" y="90360"/>
            <a:ext cx="909720" cy="3477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Afbeelding 1" descr="UM_schrijfwijze-[rgb].png"/>
          <p:cNvPicPr/>
          <p:nvPr/>
        </p:nvPicPr>
        <p:blipFill>
          <a:blip r:embed="rId2"/>
          <a:stretch/>
        </p:blipFill>
        <p:spPr>
          <a:xfrm>
            <a:off x="487440" y="90360"/>
            <a:ext cx="909720" cy="347760"/>
          </a:xfrm>
          <a:prstGeom prst="rect">
            <a:avLst/>
          </a:prstGeom>
          <a:ln w="0">
            <a:noFill/>
          </a:ln>
        </p:spPr>
      </p:pic>
      <p:sp>
        <p:nvSpPr>
          <p:cNvPr id="40" name="Rechthoek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312"/>
          </a:solidFill>
          <a:ln w="0">
            <a:noFill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1" name="Afbeelding 8" descr="UM_letters[rgb]2.png"/>
          <p:cNvPicPr/>
          <p:nvPr/>
        </p:nvPicPr>
        <p:blipFill>
          <a:blip r:embed="rId3"/>
          <a:stretch/>
        </p:blipFill>
        <p:spPr>
          <a:xfrm>
            <a:off x="2309760" y="2840040"/>
            <a:ext cx="4524480" cy="1177920"/>
          </a:xfrm>
          <a:prstGeom prst="rect">
            <a:avLst/>
          </a:prstGeom>
          <a:ln w="0">
            <a:noFill/>
          </a:ln>
        </p:spPr>
      </p:pic>
      <p:pic>
        <p:nvPicPr>
          <p:cNvPr id="42" name="Afbeelding 9" descr="Universiteit_Utrecht2.png"/>
          <p:cNvPicPr/>
          <p:nvPr/>
        </p:nvPicPr>
        <p:blipFill>
          <a:blip r:embed="rId4"/>
          <a:stretch/>
        </p:blipFill>
        <p:spPr>
          <a:xfrm>
            <a:off x="447840" y="6181560"/>
            <a:ext cx="1773000" cy="4734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Afbeelding 1" descr="UM_schrijfwijze-[rgb].png"/>
          <p:cNvPicPr/>
          <p:nvPr/>
        </p:nvPicPr>
        <p:blipFill>
          <a:blip r:embed="rId2"/>
          <a:stretch/>
        </p:blipFill>
        <p:spPr>
          <a:xfrm>
            <a:off x="487440" y="90360"/>
            <a:ext cx="909720" cy="347760"/>
          </a:xfrm>
          <a:prstGeom prst="rect">
            <a:avLst/>
          </a:prstGeom>
          <a:ln w="0">
            <a:noFill/>
          </a:ln>
        </p:spPr>
      </p:pic>
      <p:sp>
        <p:nvSpPr>
          <p:cNvPr id="82" name="Rechthoek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Afbeelding 1" descr="UM_schrijfwijze-[rgb].png"/>
          <p:cNvPicPr/>
          <p:nvPr/>
        </p:nvPicPr>
        <p:blipFill>
          <a:blip r:embed="rId2"/>
          <a:stretch/>
        </p:blipFill>
        <p:spPr>
          <a:xfrm>
            <a:off x="487440" y="90360"/>
            <a:ext cx="909720" cy="347760"/>
          </a:xfrm>
          <a:prstGeom prst="rect">
            <a:avLst/>
          </a:prstGeom>
          <a:ln w="0">
            <a:noFill/>
          </a:ln>
        </p:spPr>
      </p:pic>
      <p:sp>
        <p:nvSpPr>
          <p:cNvPr id="122" name="Rechthoek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e31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600" spc="-1" strike="noStrike">
                <a:solidFill>
                  <a:srgbClr val="ffe917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36320" y="1863720"/>
            <a:ext cx="7995960" cy="313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220840" y="4025520"/>
            <a:ext cx="623736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nl-NL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6320" y="830160"/>
            <a:ext cx="7995960" cy="493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nl-NL" sz="3600" spc="-1" strike="noStrike">
                <a:solidFill>
                  <a:srgbClr val="ffe917"/>
                </a:solidFill>
                <a:latin typeface="Calibri"/>
              </a:rPr>
              <a:t>Welke botten zitten er in je arm?</a:t>
            </a:r>
            <a:endParaRPr b="1" lang="en-US" sz="3600" spc="-1" strike="noStrike">
              <a:solidFill>
                <a:srgbClr val="ffe917"/>
              </a:solidFill>
              <a:latin typeface="Calibri"/>
            </a:endParaRPr>
          </a:p>
        </p:txBody>
      </p:sp>
      <p:pic>
        <p:nvPicPr>
          <p:cNvPr id="170" name="Tijdelijke aanduiding voor inhoud 5" descr=""/>
          <p:cNvPicPr/>
          <p:nvPr/>
        </p:nvPicPr>
        <p:blipFill>
          <a:blip r:embed="rId1"/>
          <a:stretch/>
        </p:blipFill>
        <p:spPr>
          <a:xfrm>
            <a:off x="1170000" y="1546200"/>
            <a:ext cx="2160720" cy="5083200"/>
          </a:xfrm>
          <a:prstGeom prst="rect">
            <a:avLst/>
          </a:prstGeom>
          <a:ln w="0">
            <a:noFill/>
          </a:ln>
        </p:spPr>
      </p:pic>
      <p:pic>
        <p:nvPicPr>
          <p:cNvPr id="171" name="Tijdelijke aanduiding voor inhoud 5" descr=""/>
          <p:cNvPicPr/>
          <p:nvPr/>
        </p:nvPicPr>
        <p:blipFill>
          <a:blip r:embed="rId2"/>
          <a:srcRect l="56047" t="17619" r="3260" b="37286"/>
          <a:stretch/>
        </p:blipFill>
        <p:spPr>
          <a:xfrm>
            <a:off x="5592600" y="1546200"/>
            <a:ext cx="1949760" cy="5083200"/>
          </a:xfrm>
          <a:prstGeom prst="rect">
            <a:avLst/>
          </a:prstGeom>
          <a:ln w="0">
            <a:noFill/>
          </a:ln>
        </p:spPr>
      </p:pic>
      <p:cxnSp>
        <p:nvCxnSpPr>
          <p:cNvPr id="172" name="Rechte verbindingslijn met pijl 7"/>
          <p:cNvCxnSpPr/>
          <p:nvPr/>
        </p:nvCxnSpPr>
        <p:spPr>
          <a:xfrm>
            <a:off x="3657600" y="3808080"/>
            <a:ext cx="1518480" cy="1080"/>
          </a:xfrm>
          <a:prstGeom prst="straightConnector1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16T19:25:15Z</dcterms:created>
  <dc:creator>Maarten Jansen</dc:creator>
  <dc:description/>
  <dc:language>en-US</dc:language>
  <cp:lastModifiedBy>Brennand, K. (Kristel)</cp:lastModifiedBy>
  <dcterms:modified xsi:type="dcterms:W3CDTF">2019-07-01T13:23:50Z</dcterms:modified>
  <cp:revision>64</cp:revision>
  <dc:subject/>
  <dc:title>PowerPoint-presentatie</dc:title>
</cp:coreProperties>
</file>